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68F5-9F31-4CBF-A1DB-AC2A43CCE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2764-5909-4324-BC29-530B7A187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8B05-1328-49D8-A6FE-AFC759148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303-71D5-43E0-BD88-241759E0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AB9-B251-4A16-94AC-1637BF62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C43-DFC2-43CD-A4A7-05A14375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D68-32B0-4CFA-96A6-B422CD23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505-E47A-4699-83D8-0E454E94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475-5757-4861-A6D9-E59B87EE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E7D-9447-478F-B998-64776F59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7DF-1EB0-4C20-BF7F-FED39A21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058-6A48-45C5-8D89-70FB22C2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BB9-EF9D-4C0C-A8E1-EC8BFBA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5DC-387C-4B36-910C-896F5DC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02D-BEEA-4D51-A79D-8C409637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9EA2-DA74-4498-9C12-7B907190BBB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Таганрог шк.№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9D0-B004-4EC0-BBFE-6E93EC746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Тест по теме</a:t>
            </a:r>
            <a:br>
              <a:rPr sz="4000"/>
            </a:b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Системы счисл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410080" y="50292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Учитель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Денежкина  В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eopls29"/>
          <p:cNvPicPr/>
          <p:nvPr/>
        </p:nvPicPr>
        <p:blipFill>
          <a:blip r:embed="rId1"/>
          <a:stretch/>
        </p:blipFill>
        <p:spPr>
          <a:xfrm>
            <a:off x="1447920" y="2082960"/>
            <a:ext cx="44193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7"/>
          <p:cNvSpPr/>
          <p:nvPr/>
        </p:nvSpPr>
        <p:spPr>
          <a:xfrm>
            <a:off x="4572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066680" y="685800"/>
            <a:ext cx="6782040" cy="459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истемы счисления бывают 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5003280" y="1514880"/>
            <a:ext cx="3641760" cy="4050000"/>
            <a:chOff x="5003280" y="1514880"/>
            <a:chExt cx="3641760" cy="4050000"/>
          </a:xfrm>
        </p:grpSpPr>
        <p:sp>
          <p:nvSpPr>
            <p:cNvPr id="119" name="Text Box 14"/>
            <p:cNvSpPr/>
            <p:nvPr/>
          </p:nvSpPr>
          <p:spPr>
            <a:xfrm rot="2460600">
              <a:off x="5294160" y="1566000"/>
              <a:ext cx="567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5186520" y="4284720"/>
              <a:ext cx="566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 rot="20634600">
              <a:off x="7323120" y="2374920"/>
              <a:ext cx="567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99cc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 rot="955200">
              <a:off x="7939080" y="4353840"/>
              <a:ext cx="565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8"/>
            <p:cNvGrpSpPr/>
            <p:nvPr/>
          </p:nvGrpSpPr>
          <p:grpSpPr>
            <a:xfrm>
              <a:off x="5959080" y="1719000"/>
              <a:ext cx="1254960" cy="3845880"/>
              <a:chOff x="5959080" y="1719000"/>
              <a:chExt cx="1254960" cy="3845880"/>
            </a:xfrm>
          </p:grpSpPr>
          <p:sp>
            <p:nvSpPr>
              <p:cNvPr id="124" name="AutoShape 19"/>
              <p:cNvSpPr/>
              <p:nvPr/>
            </p:nvSpPr>
            <p:spPr>
              <a:xfrm>
                <a:off x="5959080" y="1719000"/>
                <a:ext cx="1254960" cy="38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20"/>
              <p:cNvGrpSpPr/>
              <p:nvPr/>
            </p:nvGrpSpPr>
            <p:grpSpPr>
              <a:xfrm>
                <a:off x="5961240" y="2016720"/>
                <a:ext cx="1251000" cy="3547800"/>
                <a:chOff x="5961240" y="2016720"/>
                <a:chExt cx="1251000" cy="3547800"/>
              </a:xfrm>
            </p:grpSpPr>
            <p:sp>
              <p:nvSpPr>
                <p:cNvPr id="126" name="Freeform 21"/>
                <p:cNvSpPr/>
                <p:nvPr/>
              </p:nvSpPr>
              <p:spPr>
                <a:xfrm>
                  <a:off x="6360120" y="2215080"/>
                  <a:ext cx="489960" cy="774360"/>
                </a:xfrm>
                <a:custGeom>
                  <a:avLst/>
                  <a:gdLst>
                    <a:gd name="textAreaLeft" fmla="*/ 0 w 489960"/>
                    <a:gd name="textAreaRight" fmla="*/ 490320 w 489960"/>
                    <a:gd name="textAreaTop" fmla="*/ 0 h 774360"/>
                    <a:gd name="textAreaBottom" fmla="*/ 774720 h 774360"/>
                  </a:gdLst>
                  <a:ahLst/>
                  <a:rect l="textAreaLeft" t="textAreaTop" r="textAreaRight" b="textAreaBottom"/>
                  <a:pathLst>
                    <a:path w="457" h="507">
                      <a:moveTo>
                        <a:pt x="238" y="117"/>
                      </a:moveTo>
                      <a:lnTo>
                        <a:pt x="198" y="65"/>
                      </a:lnTo>
                      <a:lnTo>
                        <a:pt x="142" y="26"/>
                      </a:lnTo>
                      <a:lnTo>
                        <a:pt x="92" y="0"/>
                      </a:lnTo>
                      <a:lnTo>
                        <a:pt x="52" y="7"/>
                      </a:lnTo>
                      <a:lnTo>
                        <a:pt x="23" y="36"/>
                      </a:lnTo>
                      <a:lnTo>
                        <a:pt x="0" y="124"/>
                      </a:lnTo>
                      <a:lnTo>
                        <a:pt x="9" y="225"/>
                      </a:lnTo>
                      <a:lnTo>
                        <a:pt x="33" y="322"/>
                      </a:lnTo>
                      <a:lnTo>
                        <a:pt x="59" y="397"/>
                      </a:lnTo>
                      <a:lnTo>
                        <a:pt x="109" y="475"/>
                      </a:lnTo>
                      <a:lnTo>
                        <a:pt x="152" y="507"/>
                      </a:lnTo>
                      <a:lnTo>
                        <a:pt x="211" y="507"/>
                      </a:lnTo>
                      <a:lnTo>
                        <a:pt x="271" y="485"/>
                      </a:lnTo>
                      <a:lnTo>
                        <a:pt x="301" y="429"/>
                      </a:lnTo>
                      <a:lnTo>
                        <a:pt x="317" y="358"/>
                      </a:lnTo>
                      <a:lnTo>
                        <a:pt x="311" y="270"/>
                      </a:lnTo>
                      <a:lnTo>
                        <a:pt x="450" y="280"/>
                      </a:lnTo>
                      <a:lnTo>
                        <a:pt x="457" y="241"/>
                      </a:lnTo>
                      <a:lnTo>
                        <a:pt x="298" y="225"/>
                      </a:lnTo>
                      <a:lnTo>
                        <a:pt x="258" y="134"/>
                      </a:lnTo>
                      <a:lnTo>
                        <a:pt x="238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2"/>
                <p:cNvSpPr/>
                <p:nvPr/>
              </p:nvSpPr>
              <p:spPr>
                <a:xfrm>
                  <a:off x="5961240" y="2016720"/>
                  <a:ext cx="564120" cy="1242000"/>
                </a:xfrm>
                <a:custGeom>
                  <a:avLst/>
                  <a:gdLst>
                    <a:gd name="textAreaLeft" fmla="*/ 0 w 564120"/>
                    <a:gd name="textAreaRight" fmla="*/ 564480 w 564120"/>
                    <a:gd name="textAreaTop" fmla="*/ 0 h 1242000"/>
                    <a:gd name="textAreaBottom" fmla="*/ 1242360 h 1242000"/>
                  </a:gdLst>
                  <a:ahLst/>
                  <a:rect l="textAreaLeft" t="textAreaTop" r="textAreaRight" b="textAreaBottom"/>
                  <a:pathLst>
                    <a:path w="526" h="813">
                      <a:moveTo>
                        <a:pt x="307" y="19"/>
                      </a:moveTo>
                      <a:lnTo>
                        <a:pt x="373" y="0"/>
                      </a:lnTo>
                      <a:lnTo>
                        <a:pt x="426" y="3"/>
                      </a:lnTo>
                      <a:lnTo>
                        <a:pt x="466" y="32"/>
                      </a:lnTo>
                      <a:lnTo>
                        <a:pt x="493" y="78"/>
                      </a:lnTo>
                      <a:lnTo>
                        <a:pt x="483" y="126"/>
                      </a:lnTo>
                      <a:lnTo>
                        <a:pt x="446" y="126"/>
                      </a:lnTo>
                      <a:lnTo>
                        <a:pt x="456" y="87"/>
                      </a:lnTo>
                      <a:lnTo>
                        <a:pt x="426" y="52"/>
                      </a:lnTo>
                      <a:lnTo>
                        <a:pt x="397" y="39"/>
                      </a:lnTo>
                      <a:lnTo>
                        <a:pt x="347" y="52"/>
                      </a:lnTo>
                      <a:lnTo>
                        <a:pt x="367" y="91"/>
                      </a:lnTo>
                      <a:lnTo>
                        <a:pt x="373" y="126"/>
                      </a:lnTo>
                      <a:lnTo>
                        <a:pt x="367" y="156"/>
                      </a:lnTo>
                      <a:lnTo>
                        <a:pt x="317" y="169"/>
                      </a:lnTo>
                      <a:lnTo>
                        <a:pt x="264" y="159"/>
                      </a:lnTo>
                      <a:lnTo>
                        <a:pt x="254" y="136"/>
                      </a:lnTo>
                      <a:lnTo>
                        <a:pt x="198" y="198"/>
                      </a:lnTo>
                      <a:lnTo>
                        <a:pt x="165" y="266"/>
                      </a:lnTo>
                      <a:lnTo>
                        <a:pt x="119" y="354"/>
                      </a:lnTo>
                      <a:lnTo>
                        <a:pt x="89" y="432"/>
                      </a:lnTo>
                      <a:lnTo>
                        <a:pt x="76" y="507"/>
                      </a:lnTo>
                      <a:lnTo>
                        <a:pt x="86" y="546"/>
                      </a:lnTo>
                      <a:lnTo>
                        <a:pt x="139" y="595"/>
                      </a:lnTo>
                      <a:lnTo>
                        <a:pt x="248" y="637"/>
                      </a:lnTo>
                      <a:lnTo>
                        <a:pt x="307" y="656"/>
                      </a:lnTo>
                      <a:lnTo>
                        <a:pt x="367" y="666"/>
                      </a:lnTo>
                      <a:lnTo>
                        <a:pt x="456" y="702"/>
                      </a:lnTo>
                      <a:lnTo>
                        <a:pt x="522" y="725"/>
                      </a:lnTo>
                      <a:lnTo>
                        <a:pt x="526" y="770"/>
                      </a:lnTo>
                      <a:lnTo>
                        <a:pt x="493" y="803"/>
                      </a:lnTo>
                      <a:lnTo>
                        <a:pt x="453" y="813"/>
                      </a:lnTo>
                      <a:lnTo>
                        <a:pt x="393" y="783"/>
                      </a:lnTo>
                      <a:lnTo>
                        <a:pt x="254" y="712"/>
                      </a:lnTo>
                      <a:lnTo>
                        <a:pt x="139" y="663"/>
                      </a:lnTo>
                      <a:lnTo>
                        <a:pt x="59" y="608"/>
                      </a:lnTo>
                      <a:lnTo>
                        <a:pt x="6" y="559"/>
                      </a:lnTo>
                      <a:lnTo>
                        <a:pt x="0" y="500"/>
                      </a:lnTo>
                      <a:lnTo>
                        <a:pt x="29" y="422"/>
                      </a:lnTo>
                      <a:lnTo>
                        <a:pt x="89" y="305"/>
                      </a:lnTo>
                      <a:lnTo>
                        <a:pt x="145" y="208"/>
                      </a:lnTo>
                      <a:lnTo>
                        <a:pt x="215" y="107"/>
                      </a:lnTo>
                      <a:lnTo>
                        <a:pt x="268" y="48"/>
                      </a:lnTo>
                      <a:lnTo>
                        <a:pt x="334" y="19"/>
                      </a:lnTo>
                      <a:lnTo>
                        <a:pt x="307" y="19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3"/>
                <p:cNvSpPr/>
                <p:nvPr/>
              </p:nvSpPr>
              <p:spPr>
                <a:xfrm>
                  <a:off x="6492960" y="3046320"/>
                  <a:ext cx="294840" cy="1165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1165680"/>
                    <a:gd name="textAreaBottom" fmla="*/ 1165680 h 1165680"/>
                  </a:gdLst>
                  <a:ahLst/>
                  <a:rect l="textAreaLeft" t="textAreaTop" r="textAreaRight" b="textAreaBottom"/>
                  <a:pathLst>
                    <a:path w="275" h="763">
                      <a:moveTo>
                        <a:pt x="17" y="59"/>
                      </a:moveTo>
                      <a:lnTo>
                        <a:pt x="27" y="20"/>
                      </a:lnTo>
                      <a:lnTo>
                        <a:pt x="70" y="0"/>
                      </a:lnTo>
                      <a:lnTo>
                        <a:pt x="109" y="0"/>
                      </a:lnTo>
                      <a:lnTo>
                        <a:pt x="159" y="29"/>
                      </a:lnTo>
                      <a:lnTo>
                        <a:pt x="206" y="98"/>
                      </a:lnTo>
                      <a:lnTo>
                        <a:pt x="239" y="169"/>
                      </a:lnTo>
                      <a:lnTo>
                        <a:pt x="255" y="266"/>
                      </a:lnTo>
                      <a:lnTo>
                        <a:pt x="269" y="380"/>
                      </a:lnTo>
                      <a:lnTo>
                        <a:pt x="275" y="490"/>
                      </a:lnTo>
                      <a:lnTo>
                        <a:pt x="275" y="633"/>
                      </a:lnTo>
                      <a:lnTo>
                        <a:pt x="255" y="721"/>
                      </a:lnTo>
                      <a:lnTo>
                        <a:pt x="219" y="753"/>
                      </a:lnTo>
                      <a:lnTo>
                        <a:pt x="156" y="763"/>
                      </a:lnTo>
                      <a:lnTo>
                        <a:pt x="90" y="760"/>
                      </a:lnTo>
                      <a:lnTo>
                        <a:pt x="56" y="721"/>
                      </a:lnTo>
                      <a:lnTo>
                        <a:pt x="37" y="653"/>
                      </a:lnTo>
                      <a:lnTo>
                        <a:pt x="20" y="585"/>
                      </a:lnTo>
                      <a:lnTo>
                        <a:pt x="7" y="461"/>
                      </a:lnTo>
                      <a:lnTo>
                        <a:pt x="0" y="322"/>
                      </a:lnTo>
                      <a:lnTo>
                        <a:pt x="0" y="159"/>
                      </a:lnTo>
                      <a:lnTo>
                        <a:pt x="17" y="88"/>
                      </a:lnTo>
                      <a:lnTo>
                        <a:pt x="17" y="59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24"/>
                <p:cNvSpPr/>
                <p:nvPr/>
              </p:nvSpPr>
              <p:spPr>
                <a:xfrm>
                  <a:off x="6629040" y="3078360"/>
                  <a:ext cx="450360" cy="894960"/>
                </a:xfrm>
                <a:custGeom>
                  <a:avLst/>
                  <a:gdLst>
                    <a:gd name="textAreaLeft" fmla="*/ 0 w 450360"/>
                    <a:gd name="textAreaRight" fmla="*/ 450720 w 450360"/>
                    <a:gd name="textAreaTop" fmla="*/ 0 h 894960"/>
                    <a:gd name="textAreaBottom" fmla="*/ 895320 h 894960"/>
                  </a:gdLst>
                  <a:ahLst/>
                  <a:rect l="textAreaLeft" t="textAreaTop" r="textAreaRight" b="textAreaBottom"/>
                  <a:pathLst>
                    <a:path w="420" h="586">
                      <a:moveTo>
                        <a:pt x="23" y="0"/>
                      </a:moveTo>
                      <a:lnTo>
                        <a:pt x="109" y="10"/>
                      </a:lnTo>
                      <a:lnTo>
                        <a:pt x="198" y="26"/>
                      </a:lnTo>
                      <a:lnTo>
                        <a:pt x="291" y="78"/>
                      </a:lnTo>
                      <a:lnTo>
                        <a:pt x="357" y="117"/>
                      </a:lnTo>
                      <a:lnTo>
                        <a:pt x="400" y="173"/>
                      </a:lnTo>
                      <a:lnTo>
                        <a:pt x="420" y="205"/>
                      </a:lnTo>
                      <a:lnTo>
                        <a:pt x="380" y="300"/>
                      </a:lnTo>
                      <a:lnTo>
                        <a:pt x="317" y="358"/>
                      </a:lnTo>
                      <a:lnTo>
                        <a:pt x="241" y="400"/>
                      </a:lnTo>
                      <a:lnTo>
                        <a:pt x="201" y="426"/>
                      </a:lnTo>
                      <a:lnTo>
                        <a:pt x="132" y="439"/>
                      </a:lnTo>
                      <a:lnTo>
                        <a:pt x="129" y="465"/>
                      </a:lnTo>
                      <a:lnTo>
                        <a:pt x="182" y="488"/>
                      </a:lnTo>
                      <a:lnTo>
                        <a:pt x="258" y="508"/>
                      </a:lnTo>
                      <a:lnTo>
                        <a:pt x="330" y="547"/>
                      </a:lnTo>
                      <a:lnTo>
                        <a:pt x="301" y="576"/>
                      </a:lnTo>
                      <a:lnTo>
                        <a:pt x="271" y="586"/>
                      </a:lnTo>
                      <a:lnTo>
                        <a:pt x="228" y="543"/>
                      </a:lnTo>
                      <a:lnTo>
                        <a:pt x="162" y="517"/>
                      </a:lnTo>
                      <a:lnTo>
                        <a:pt x="109" y="498"/>
                      </a:lnTo>
                      <a:lnTo>
                        <a:pt x="109" y="459"/>
                      </a:lnTo>
                      <a:lnTo>
                        <a:pt x="119" y="417"/>
                      </a:lnTo>
                      <a:lnTo>
                        <a:pt x="152" y="400"/>
                      </a:lnTo>
                      <a:lnTo>
                        <a:pt x="258" y="358"/>
                      </a:lnTo>
                      <a:lnTo>
                        <a:pt x="317" y="293"/>
                      </a:lnTo>
                      <a:lnTo>
                        <a:pt x="360" y="225"/>
                      </a:lnTo>
                      <a:lnTo>
                        <a:pt x="350" y="192"/>
                      </a:lnTo>
                      <a:lnTo>
                        <a:pt x="317" y="153"/>
                      </a:lnTo>
                      <a:lnTo>
                        <a:pt x="238" y="98"/>
                      </a:lnTo>
                      <a:lnTo>
                        <a:pt x="142" y="78"/>
                      </a:lnTo>
                      <a:lnTo>
                        <a:pt x="79" y="75"/>
                      </a:lnTo>
                      <a:lnTo>
                        <a:pt x="23" y="75"/>
                      </a:lnTo>
                      <a:lnTo>
                        <a:pt x="0" y="3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5"/>
                <p:cNvSpPr/>
                <p:nvPr/>
              </p:nvSpPr>
              <p:spPr>
                <a:xfrm>
                  <a:off x="6664680" y="4092840"/>
                  <a:ext cx="547560" cy="1446840"/>
                </a:xfrm>
                <a:custGeom>
                  <a:avLst/>
                  <a:gdLst>
                    <a:gd name="textAreaLeft" fmla="*/ 0 w 547560"/>
                    <a:gd name="textAreaRight" fmla="*/ 547920 w 547560"/>
                    <a:gd name="textAreaTop" fmla="*/ 0 h 1446840"/>
                    <a:gd name="textAreaBottom" fmla="*/ 1446840 h 1446840"/>
                  </a:gdLst>
                  <a:ahLst/>
                  <a:rect l="textAreaLeft" t="textAreaTop" r="textAreaRight" b="textAreaBottom"/>
                  <a:pathLst>
                    <a:path w="511" h="947">
                      <a:moveTo>
                        <a:pt x="59" y="0"/>
                      </a:moveTo>
                      <a:lnTo>
                        <a:pt x="13" y="0"/>
                      </a:lnTo>
                      <a:lnTo>
                        <a:pt x="0" y="68"/>
                      </a:lnTo>
                      <a:lnTo>
                        <a:pt x="33" y="108"/>
                      </a:lnTo>
                      <a:lnTo>
                        <a:pt x="139" y="202"/>
                      </a:lnTo>
                      <a:lnTo>
                        <a:pt x="232" y="322"/>
                      </a:lnTo>
                      <a:lnTo>
                        <a:pt x="292" y="446"/>
                      </a:lnTo>
                      <a:lnTo>
                        <a:pt x="301" y="527"/>
                      </a:lnTo>
                      <a:lnTo>
                        <a:pt x="298" y="586"/>
                      </a:lnTo>
                      <a:lnTo>
                        <a:pt x="272" y="719"/>
                      </a:lnTo>
                      <a:lnTo>
                        <a:pt x="238" y="827"/>
                      </a:lnTo>
                      <a:lnTo>
                        <a:pt x="209" y="889"/>
                      </a:lnTo>
                      <a:lnTo>
                        <a:pt x="202" y="928"/>
                      </a:lnTo>
                      <a:lnTo>
                        <a:pt x="232" y="928"/>
                      </a:lnTo>
                      <a:lnTo>
                        <a:pt x="278" y="915"/>
                      </a:lnTo>
                      <a:lnTo>
                        <a:pt x="292" y="918"/>
                      </a:lnTo>
                      <a:lnTo>
                        <a:pt x="388" y="924"/>
                      </a:lnTo>
                      <a:lnTo>
                        <a:pt x="461" y="947"/>
                      </a:lnTo>
                      <a:lnTo>
                        <a:pt x="487" y="934"/>
                      </a:lnTo>
                      <a:lnTo>
                        <a:pt x="511" y="885"/>
                      </a:lnTo>
                      <a:lnTo>
                        <a:pt x="487" y="859"/>
                      </a:lnTo>
                      <a:lnTo>
                        <a:pt x="378" y="856"/>
                      </a:lnTo>
                      <a:lnTo>
                        <a:pt x="301" y="866"/>
                      </a:lnTo>
                      <a:lnTo>
                        <a:pt x="262" y="885"/>
                      </a:lnTo>
                      <a:lnTo>
                        <a:pt x="268" y="840"/>
                      </a:lnTo>
                      <a:lnTo>
                        <a:pt x="308" y="771"/>
                      </a:lnTo>
                      <a:lnTo>
                        <a:pt x="341" y="664"/>
                      </a:lnTo>
                      <a:lnTo>
                        <a:pt x="368" y="573"/>
                      </a:lnTo>
                      <a:lnTo>
                        <a:pt x="348" y="469"/>
                      </a:lnTo>
                      <a:lnTo>
                        <a:pt x="318" y="358"/>
                      </a:lnTo>
                      <a:lnTo>
                        <a:pt x="258" y="231"/>
                      </a:lnTo>
                      <a:lnTo>
                        <a:pt x="172" y="114"/>
                      </a:lnTo>
                      <a:lnTo>
                        <a:pt x="99" y="2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26"/>
                <p:cNvSpPr/>
                <p:nvPr/>
              </p:nvSpPr>
              <p:spPr>
                <a:xfrm>
                  <a:off x="6320160" y="4089960"/>
                  <a:ext cx="368640" cy="1474560"/>
                </a:xfrm>
                <a:custGeom>
                  <a:avLst/>
                  <a:gdLst>
                    <a:gd name="textAreaLeft" fmla="*/ 0 w 368640"/>
                    <a:gd name="textAreaRight" fmla="*/ 369000 w 368640"/>
                    <a:gd name="textAreaTop" fmla="*/ 0 h 1474560"/>
                    <a:gd name="textAreaBottom" fmla="*/ 1474920 h 1474560"/>
                  </a:gdLst>
                  <a:ahLst/>
                  <a:rect l="textAreaLeft" t="textAreaTop" r="textAreaRight" b="textAreaBottom"/>
                  <a:pathLst>
                    <a:path w="344" h="965">
                      <a:moveTo>
                        <a:pt x="238" y="0"/>
                      </a:moveTo>
                      <a:lnTo>
                        <a:pt x="195" y="91"/>
                      </a:lnTo>
                      <a:lnTo>
                        <a:pt x="165" y="224"/>
                      </a:lnTo>
                      <a:lnTo>
                        <a:pt x="129" y="371"/>
                      </a:lnTo>
                      <a:lnTo>
                        <a:pt x="96" y="520"/>
                      </a:lnTo>
                      <a:lnTo>
                        <a:pt x="96" y="575"/>
                      </a:lnTo>
                      <a:lnTo>
                        <a:pt x="129" y="673"/>
                      </a:lnTo>
                      <a:lnTo>
                        <a:pt x="175" y="725"/>
                      </a:lnTo>
                      <a:lnTo>
                        <a:pt x="218" y="790"/>
                      </a:lnTo>
                      <a:lnTo>
                        <a:pt x="248" y="838"/>
                      </a:lnTo>
                      <a:lnTo>
                        <a:pt x="235" y="861"/>
                      </a:lnTo>
                      <a:lnTo>
                        <a:pt x="159" y="871"/>
                      </a:lnTo>
                      <a:lnTo>
                        <a:pt x="36" y="890"/>
                      </a:lnTo>
                      <a:lnTo>
                        <a:pt x="0" y="920"/>
                      </a:lnTo>
                      <a:lnTo>
                        <a:pt x="30" y="946"/>
                      </a:lnTo>
                      <a:lnTo>
                        <a:pt x="99" y="965"/>
                      </a:lnTo>
                      <a:lnTo>
                        <a:pt x="179" y="926"/>
                      </a:lnTo>
                      <a:lnTo>
                        <a:pt x="238" y="900"/>
                      </a:lnTo>
                      <a:lnTo>
                        <a:pt x="314" y="890"/>
                      </a:lnTo>
                      <a:lnTo>
                        <a:pt x="344" y="881"/>
                      </a:lnTo>
                      <a:lnTo>
                        <a:pt x="334" y="848"/>
                      </a:lnTo>
                      <a:lnTo>
                        <a:pt x="248" y="764"/>
                      </a:lnTo>
                      <a:lnTo>
                        <a:pt x="198" y="676"/>
                      </a:lnTo>
                      <a:lnTo>
                        <a:pt x="155" y="617"/>
                      </a:lnTo>
                      <a:lnTo>
                        <a:pt x="149" y="559"/>
                      </a:lnTo>
                      <a:lnTo>
                        <a:pt x="169" y="462"/>
                      </a:lnTo>
                      <a:lnTo>
                        <a:pt x="215" y="361"/>
                      </a:lnTo>
                      <a:lnTo>
                        <a:pt x="265" y="189"/>
                      </a:lnTo>
                      <a:lnTo>
                        <a:pt x="308" y="88"/>
                      </a:lnTo>
                      <a:lnTo>
                        <a:pt x="304" y="29"/>
                      </a:lnTo>
                      <a:lnTo>
                        <a:pt x="265" y="0"/>
                      </a:lnTo>
                      <a:lnTo>
                        <a:pt x="238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7"/>
              <p:cNvGrpSpPr/>
              <p:nvPr/>
            </p:nvGrpSpPr>
            <p:grpSpPr>
              <a:xfrm>
                <a:off x="6715080" y="1721880"/>
                <a:ext cx="226080" cy="434880"/>
                <a:chOff x="6715080" y="1721880"/>
                <a:chExt cx="226080" cy="434880"/>
              </a:xfrm>
            </p:grpSpPr>
            <p:sp>
              <p:nvSpPr>
                <p:cNvPr id="133" name="Freeform 28"/>
                <p:cNvSpPr/>
                <p:nvPr/>
              </p:nvSpPr>
              <p:spPr>
                <a:xfrm>
                  <a:off x="6759000" y="1721880"/>
                  <a:ext cx="182160" cy="30204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170" h="198">
                      <a:moveTo>
                        <a:pt x="20" y="9"/>
                      </a:moveTo>
                      <a:lnTo>
                        <a:pt x="66" y="0"/>
                      </a:lnTo>
                      <a:lnTo>
                        <a:pt x="110" y="3"/>
                      </a:lnTo>
                      <a:lnTo>
                        <a:pt x="150" y="22"/>
                      </a:lnTo>
                      <a:lnTo>
                        <a:pt x="170" y="58"/>
                      </a:lnTo>
                      <a:lnTo>
                        <a:pt x="170" y="87"/>
                      </a:lnTo>
                      <a:lnTo>
                        <a:pt x="150" y="126"/>
                      </a:lnTo>
                      <a:lnTo>
                        <a:pt x="116" y="149"/>
                      </a:lnTo>
                      <a:lnTo>
                        <a:pt x="66" y="149"/>
                      </a:lnTo>
                      <a:lnTo>
                        <a:pt x="36" y="168"/>
                      </a:lnTo>
                      <a:lnTo>
                        <a:pt x="26" y="198"/>
                      </a:lnTo>
                      <a:lnTo>
                        <a:pt x="0" y="188"/>
                      </a:lnTo>
                      <a:lnTo>
                        <a:pt x="10" y="149"/>
                      </a:lnTo>
                      <a:lnTo>
                        <a:pt x="46" y="126"/>
                      </a:lnTo>
                      <a:lnTo>
                        <a:pt x="106" y="120"/>
                      </a:lnTo>
                      <a:lnTo>
                        <a:pt x="130" y="97"/>
                      </a:lnTo>
                      <a:lnTo>
                        <a:pt x="136" y="61"/>
                      </a:lnTo>
                      <a:lnTo>
                        <a:pt x="110" y="29"/>
                      </a:lnTo>
                      <a:lnTo>
                        <a:pt x="70" y="29"/>
                      </a:lnTo>
                      <a:lnTo>
                        <a:pt x="26" y="39"/>
                      </a:lnTo>
                      <a:lnTo>
                        <a:pt x="10" y="29"/>
                      </a:lnTo>
                      <a:lnTo>
                        <a:pt x="2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29"/>
                <p:cNvSpPr/>
                <p:nvPr/>
              </p:nvSpPr>
              <p:spPr>
                <a:xfrm>
                  <a:off x="6715080" y="2074680"/>
                  <a:ext cx="56880" cy="8208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53" h="54">
                      <a:moveTo>
                        <a:pt x="53" y="3"/>
                      </a:moveTo>
                      <a:lnTo>
                        <a:pt x="26" y="0"/>
                      </a:lnTo>
                      <a:lnTo>
                        <a:pt x="8" y="20"/>
                      </a:lnTo>
                      <a:lnTo>
                        <a:pt x="0" y="51"/>
                      </a:lnTo>
                      <a:lnTo>
                        <a:pt x="26" y="54"/>
                      </a:lnTo>
                      <a:lnTo>
                        <a:pt x="48" y="40"/>
                      </a:lnTo>
                      <a:lnTo>
                        <a:pt x="5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228600" y="609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143000" y="380880"/>
            <a:ext cx="739152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акая буква в шестнадцатеричной системе счисления соответствует числу 1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J0282747"/>
          <p:cNvPicPr/>
          <p:nvPr/>
        </p:nvPicPr>
        <p:blipFill>
          <a:blip r:embed="rId1"/>
          <a:stretch/>
        </p:blipFill>
        <p:spPr>
          <a:xfrm rot="355800">
            <a:off x="3832200" y="1572840"/>
            <a:ext cx="31431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7"/>
          <p:cNvSpPr/>
          <p:nvPr/>
        </p:nvSpPr>
        <p:spPr>
          <a:xfrm>
            <a:off x="228600" y="609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9"/>
          <p:cNvSpPr/>
          <p:nvPr/>
        </p:nvSpPr>
        <p:spPr>
          <a:xfrm>
            <a:off x="1181160" y="533520"/>
            <a:ext cx="678168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Найдите правильную запись ответа для данного при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35956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152280" y="3808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5"/>
          <p:cNvSpPr/>
          <p:nvPr/>
        </p:nvSpPr>
        <p:spPr>
          <a:xfrm>
            <a:off x="228600" y="609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7"/>
          <p:cNvSpPr/>
          <p:nvPr/>
        </p:nvSpPr>
        <p:spPr>
          <a:xfrm>
            <a:off x="990720" y="533520"/>
            <a:ext cx="754380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епозиционная система счисления -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66520" y="533520"/>
            <a:ext cx="3886200" cy="71568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990720" y="1676520"/>
            <a:ext cx="327636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выполнено зад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990720" y="2514600"/>
            <a:ext cx="327636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о верн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990720" y="3352680"/>
            <a:ext cx="327636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нт вы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990720" y="4114800"/>
            <a:ext cx="3276360" cy="368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81952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3880" y="1397160"/>
          <a:ext cx="4953240" cy="4546440"/>
        </p:xfrm>
        <a:graphic>
          <a:graphicData uri="http://schemas.openxmlformats.org/drawingml/2006/table">
            <a:tbl>
              <a:tblPr/>
              <a:tblGrid>
                <a:gridCol w="916200"/>
                <a:gridCol w="1560600"/>
                <a:gridCol w="1238040"/>
                <a:gridCol w="123840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6"/>
          <p:cNvGrpSpPr/>
          <p:nvPr/>
        </p:nvGrpSpPr>
        <p:grpSpPr>
          <a:xfrm>
            <a:off x="3582720" y="1562400"/>
            <a:ext cx="4621680" cy="4004280"/>
            <a:chOff x="3582720" y="1562400"/>
            <a:chExt cx="4621680" cy="4004280"/>
          </a:xfrm>
        </p:grpSpPr>
        <p:sp>
          <p:nvSpPr>
            <p:cNvPr id="53" name="Text Box 9"/>
            <p:cNvSpPr/>
            <p:nvPr/>
          </p:nvSpPr>
          <p:spPr>
            <a:xfrm rot="2460600">
              <a:off x="3853440" y="1667880"/>
              <a:ext cx="73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3809880" y="4317840"/>
              <a:ext cx="73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 rot="20634600">
              <a:off x="6620040" y="2459520"/>
              <a:ext cx="73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99cc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 rot="955200">
              <a:off x="7334280" y="4387320"/>
              <a:ext cx="73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15"/>
            <p:cNvGrpSpPr/>
            <p:nvPr/>
          </p:nvGrpSpPr>
          <p:grpSpPr>
            <a:xfrm>
              <a:off x="4809960" y="1819080"/>
              <a:ext cx="1625400" cy="3743280"/>
              <a:chOff x="4809960" y="1819080"/>
              <a:chExt cx="1625400" cy="3743280"/>
            </a:xfrm>
          </p:grpSpPr>
          <p:sp>
            <p:nvSpPr>
              <p:cNvPr id="58" name="AutoShape 14"/>
              <p:cNvSpPr/>
              <p:nvPr/>
            </p:nvSpPr>
            <p:spPr>
              <a:xfrm>
                <a:off x="4809960" y="1819080"/>
                <a:ext cx="1625400" cy="374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Group 22"/>
              <p:cNvGrpSpPr/>
              <p:nvPr/>
            </p:nvGrpSpPr>
            <p:grpSpPr>
              <a:xfrm>
                <a:off x="4812480" y="2108880"/>
                <a:ext cx="1620720" cy="3452760"/>
                <a:chOff x="4812480" y="2108880"/>
                <a:chExt cx="1620720" cy="3452760"/>
              </a:xfrm>
            </p:grpSpPr>
            <p:sp>
              <p:nvSpPr>
                <p:cNvPr id="60" name="Freeform 16"/>
                <p:cNvSpPr/>
                <p:nvPr/>
              </p:nvSpPr>
              <p:spPr>
                <a:xfrm>
                  <a:off x="5329080" y="2301840"/>
                  <a:ext cx="634320" cy="753840"/>
                </a:xfrm>
                <a:custGeom>
                  <a:avLst/>
                  <a:gdLst>
                    <a:gd name="textAreaLeft" fmla="*/ 0 w 634320"/>
                    <a:gd name="textAreaRight" fmla="*/ 634680 w 634320"/>
                    <a:gd name="textAreaTop" fmla="*/ 0 h 753840"/>
                    <a:gd name="textAreaBottom" fmla="*/ 754200 h 753840"/>
                  </a:gdLst>
                  <a:ahLst/>
                  <a:rect l="textAreaLeft" t="textAreaTop" r="textAreaRight" b="textAreaBottom"/>
                  <a:pathLst>
                    <a:path w="457" h="507">
                      <a:moveTo>
                        <a:pt x="238" y="117"/>
                      </a:moveTo>
                      <a:lnTo>
                        <a:pt x="198" y="65"/>
                      </a:lnTo>
                      <a:lnTo>
                        <a:pt x="142" y="26"/>
                      </a:lnTo>
                      <a:lnTo>
                        <a:pt x="92" y="0"/>
                      </a:lnTo>
                      <a:lnTo>
                        <a:pt x="52" y="7"/>
                      </a:lnTo>
                      <a:lnTo>
                        <a:pt x="23" y="36"/>
                      </a:lnTo>
                      <a:lnTo>
                        <a:pt x="0" y="124"/>
                      </a:lnTo>
                      <a:lnTo>
                        <a:pt x="9" y="225"/>
                      </a:lnTo>
                      <a:lnTo>
                        <a:pt x="33" y="322"/>
                      </a:lnTo>
                      <a:lnTo>
                        <a:pt x="59" y="397"/>
                      </a:lnTo>
                      <a:lnTo>
                        <a:pt x="109" y="475"/>
                      </a:lnTo>
                      <a:lnTo>
                        <a:pt x="152" y="507"/>
                      </a:lnTo>
                      <a:lnTo>
                        <a:pt x="211" y="507"/>
                      </a:lnTo>
                      <a:lnTo>
                        <a:pt x="271" y="485"/>
                      </a:lnTo>
                      <a:lnTo>
                        <a:pt x="301" y="429"/>
                      </a:lnTo>
                      <a:lnTo>
                        <a:pt x="317" y="358"/>
                      </a:lnTo>
                      <a:lnTo>
                        <a:pt x="311" y="270"/>
                      </a:lnTo>
                      <a:lnTo>
                        <a:pt x="450" y="280"/>
                      </a:lnTo>
                      <a:lnTo>
                        <a:pt x="457" y="241"/>
                      </a:lnTo>
                      <a:lnTo>
                        <a:pt x="298" y="225"/>
                      </a:lnTo>
                      <a:lnTo>
                        <a:pt x="258" y="134"/>
                      </a:lnTo>
                      <a:lnTo>
                        <a:pt x="238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7"/>
                <p:cNvSpPr/>
                <p:nvPr/>
              </p:nvSpPr>
              <p:spPr>
                <a:xfrm>
                  <a:off x="4812480" y="2108880"/>
                  <a:ext cx="730440" cy="1208880"/>
                </a:xfrm>
                <a:custGeom>
                  <a:avLst/>
                  <a:gdLst>
                    <a:gd name="textAreaLeft" fmla="*/ 0 w 730440"/>
                    <a:gd name="textAreaRight" fmla="*/ 730800 w 730440"/>
                    <a:gd name="textAreaTop" fmla="*/ 0 h 1208880"/>
                    <a:gd name="textAreaBottom" fmla="*/ 1209240 h 1208880"/>
                  </a:gdLst>
                  <a:ahLst/>
                  <a:rect l="textAreaLeft" t="textAreaTop" r="textAreaRight" b="textAreaBottom"/>
                  <a:pathLst>
                    <a:path w="526" h="813">
                      <a:moveTo>
                        <a:pt x="307" y="19"/>
                      </a:moveTo>
                      <a:lnTo>
                        <a:pt x="373" y="0"/>
                      </a:lnTo>
                      <a:lnTo>
                        <a:pt x="426" y="3"/>
                      </a:lnTo>
                      <a:lnTo>
                        <a:pt x="466" y="32"/>
                      </a:lnTo>
                      <a:lnTo>
                        <a:pt x="493" y="78"/>
                      </a:lnTo>
                      <a:lnTo>
                        <a:pt x="483" y="126"/>
                      </a:lnTo>
                      <a:lnTo>
                        <a:pt x="446" y="126"/>
                      </a:lnTo>
                      <a:lnTo>
                        <a:pt x="456" y="87"/>
                      </a:lnTo>
                      <a:lnTo>
                        <a:pt x="426" y="52"/>
                      </a:lnTo>
                      <a:lnTo>
                        <a:pt x="397" y="39"/>
                      </a:lnTo>
                      <a:lnTo>
                        <a:pt x="347" y="52"/>
                      </a:lnTo>
                      <a:lnTo>
                        <a:pt x="367" y="91"/>
                      </a:lnTo>
                      <a:lnTo>
                        <a:pt x="373" y="126"/>
                      </a:lnTo>
                      <a:lnTo>
                        <a:pt x="367" y="156"/>
                      </a:lnTo>
                      <a:lnTo>
                        <a:pt x="317" y="169"/>
                      </a:lnTo>
                      <a:lnTo>
                        <a:pt x="264" y="159"/>
                      </a:lnTo>
                      <a:lnTo>
                        <a:pt x="254" y="136"/>
                      </a:lnTo>
                      <a:lnTo>
                        <a:pt x="198" y="198"/>
                      </a:lnTo>
                      <a:lnTo>
                        <a:pt x="165" y="266"/>
                      </a:lnTo>
                      <a:lnTo>
                        <a:pt x="119" y="354"/>
                      </a:lnTo>
                      <a:lnTo>
                        <a:pt x="89" y="432"/>
                      </a:lnTo>
                      <a:lnTo>
                        <a:pt x="76" y="507"/>
                      </a:lnTo>
                      <a:lnTo>
                        <a:pt x="86" y="546"/>
                      </a:lnTo>
                      <a:lnTo>
                        <a:pt x="139" y="595"/>
                      </a:lnTo>
                      <a:lnTo>
                        <a:pt x="248" y="637"/>
                      </a:lnTo>
                      <a:lnTo>
                        <a:pt x="307" y="656"/>
                      </a:lnTo>
                      <a:lnTo>
                        <a:pt x="367" y="666"/>
                      </a:lnTo>
                      <a:lnTo>
                        <a:pt x="456" y="702"/>
                      </a:lnTo>
                      <a:lnTo>
                        <a:pt x="522" y="725"/>
                      </a:lnTo>
                      <a:lnTo>
                        <a:pt x="526" y="770"/>
                      </a:lnTo>
                      <a:lnTo>
                        <a:pt x="493" y="803"/>
                      </a:lnTo>
                      <a:lnTo>
                        <a:pt x="453" y="813"/>
                      </a:lnTo>
                      <a:lnTo>
                        <a:pt x="393" y="783"/>
                      </a:lnTo>
                      <a:lnTo>
                        <a:pt x="254" y="712"/>
                      </a:lnTo>
                      <a:lnTo>
                        <a:pt x="139" y="663"/>
                      </a:lnTo>
                      <a:lnTo>
                        <a:pt x="59" y="608"/>
                      </a:lnTo>
                      <a:lnTo>
                        <a:pt x="6" y="559"/>
                      </a:lnTo>
                      <a:lnTo>
                        <a:pt x="0" y="500"/>
                      </a:lnTo>
                      <a:lnTo>
                        <a:pt x="29" y="422"/>
                      </a:lnTo>
                      <a:lnTo>
                        <a:pt x="89" y="305"/>
                      </a:lnTo>
                      <a:lnTo>
                        <a:pt x="145" y="208"/>
                      </a:lnTo>
                      <a:lnTo>
                        <a:pt x="215" y="107"/>
                      </a:lnTo>
                      <a:lnTo>
                        <a:pt x="268" y="48"/>
                      </a:lnTo>
                      <a:lnTo>
                        <a:pt x="334" y="19"/>
                      </a:lnTo>
                      <a:lnTo>
                        <a:pt x="307" y="19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18"/>
                <p:cNvSpPr/>
                <p:nvPr/>
              </p:nvSpPr>
              <p:spPr>
                <a:xfrm>
                  <a:off x="5501160" y="3110760"/>
                  <a:ext cx="381960" cy="1134720"/>
                </a:xfrm>
                <a:custGeom>
                  <a:avLst/>
                  <a:gdLst>
                    <a:gd name="textAreaLeft" fmla="*/ 0 w 381960"/>
                    <a:gd name="textAreaRight" fmla="*/ 382320 w 381960"/>
                    <a:gd name="textAreaTop" fmla="*/ 0 h 1134720"/>
                    <a:gd name="textAreaBottom" fmla="*/ 1135080 h 1134720"/>
                  </a:gdLst>
                  <a:ahLst/>
                  <a:rect l="textAreaLeft" t="textAreaTop" r="textAreaRight" b="textAreaBottom"/>
                  <a:pathLst>
                    <a:path w="275" h="763">
                      <a:moveTo>
                        <a:pt x="17" y="59"/>
                      </a:moveTo>
                      <a:lnTo>
                        <a:pt x="27" y="20"/>
                      </a:lnTo>
                      <a:lnTo>
                        <a:pt x="70" y="0"/>
                      </a:lnTo>
                      <a:lnTo>
                        <a:pt x="109" y="0"/>
                      </a:lnTo>
                      <a:lnTo>
                        <a:pt x="159" y="29"/>
                      </a:lnTo>
                      <a:lnTo>
                        <a:pt x="206" y="98"/>
                      </a:lnTo>
                      <a:lnTo>
                        <a:pt x="239" y="169"/>
                      </a:lnTo>
                      <a:lnTo>
                        <a:pt x="255" y="266"/>
                      </a:lnTo>
                      <a:lnTo>
                        <a:pt x="269" y="380"/>
                      </a:lnTo>
                      <a:lnTo>
                        <a:pt x="275" y="490"/>
                      </a:lnTo>
                      <a:lnTo>
                        <a:pt x="275" y="633"/>
                      </a:lnTo>
                      <a:lnTo>
                        <a:pt x="255" y="721"/>
                      </a:lnTo>
                      <a:lnTo>
                        <a:pt x="219" y="753"/>
                      </a:lnTo>
                      <a:lnTo>
                        <a:pt x="156" y="763"/>
                      </a:lnTo>
                      <a:lnTo>
                        <a:pt x="90" y="760"/>
                      </a:lnTo>
                      <a:lnTo>
                        <a:pt x="56" y="721"/>
                      </a:lnTo>
                      <a:lnTo>
                        <a:pt x="37" y="653"/>
                      </a:lnTo>
                      <a:lnTo>
                        <a:pt x="20" y="585"/>
                      </a:lnTo>
                      <a:lnTo>
                        <a:pt x="7" y="461"/>
                      </a:lnTo>
                      <a:lnTo>
                        <a:pt x="0" y="322"/>
                      </a:lnTo>
                      <a:lnTo>
                        <a:pt x="0" y="159"/>
                      </a:lnTo>
                      <a:lnTo>
                        <a:pt x="17" y="88"/>
                      </a:lnTo>
                      <a:lnTo>
                        <a:pt x="17" y="59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9"/>
                <p:cNvSpPr/>
                <p:nvPr/>
              </p:nvSpPr>
              <p:spPr>
                <a:xfrm>
                  <a:off x="5677560" y="3142440"/>
                  <a:ext cx="583200" cy="871200"/>
                </a:xfrm>
                <a:custGeom>
                  <a:avLst/>
                  <a:gdLst>
                    <a:gd name="textAreaLeft" fmla="*/ 0 w 583200"/>
                    <a:gd name="textAreaRight" fmla="*/ 583560 w 583200"/>
                    <a:gd name="textAreaTop" fmla="*/ 0 h 871200"/>
                    <a:gd name="textAreaBottom" fmla="*/ 871560 h 871200"/>
                  </a:gdLst>
                  <a:ahLst/>
                  <a:rect l="textAreaLeft" t="textAreaTop" r="textAreaRight" b="textAreaBottom"/>
                  <a:pathLst>
                    <a:path w="420" h="586">
                      <a:moveTo>
                        <a:pt x="23" y="0"/>
                      </a:moveTo>
                      <a:lnTo>
                        <a:pt x="109" y="10"/>
                      </a:lnTo>
                      <a:lnTo>
                        <a:pt x="198" y="26"/>
                      </a:lnTo>
                      <a:lnTo>
                        <a:pt x="291" y="78"/>
                      </a:lnTo>
                      <a:lnTo>
                        <a:pt x="357" y="117"/>
                      </a:lnTo>
                      <a:lnTo>
                        <a:pt x="400" y="173"/>
                      </a:lnTo>
                      <a:lnTo>
                        <a:pt x="420" y="205"/>
                      </a:lnTo>
                      <a:lnTo>
                        <a:pt x="380" y="300"/>
                      </a:lnTo>
                      <a:lnTo>
                        <a:pt x="317" y="358"/>
                      </a:lnTo>
                      <a:lnTo>
                        <a:pt x="241" y="400"/>
                      </a:lnTo>
                      <a:lnTo>
                        <a:pt x="201" y="426"/>
                      </a:lnTo>
                      <a:lnTo>
                        <a:pt x="132" y="439"/>
                      </a:lnTo>
                      <a:lnTo>
                        <a:pt x="129" y="465"/>
                      </a:lnTo>
                      <a:lnTo>
                        <a:pt x="182" y="488"/>
                      </a:lnTo>
                      <a:lnTo>
                        <a:pt x="258" y="508"/>
                      </a:lnTo>
                      <a:lnTo>
                        <a:pt x="330" y="547"/>
                      </a:lnTo>
                      <a:lnTo>
                        <a:pt x="301" y="576"/>
                      </a:lnTo>
                      <a:lnTo>
                        <a:pt x="271" y="586"/>
                      </a:lnTo>
                      <a:lnTo>
                        <a:pt x="228" y="543"/>
                      </a:lnTo>
                      <a:lnTo>
                        <a:pt x="162" y="517"/>
                      </a:lnTo>
                      <a:lnTo>
                        <a:pt x="109" y="498"/>
                      </a:lnTo>
                      <a:lnTo>
                        <a:pt x="109" y="459"/>
                      </a:lnTo>
                      <a:lnTo>
                        <a:pt x="119" y="417"/>
                      </a:lnTo>
                      <a:lnTo>
                        <a:pt x="152" y="400"/>
                      </a:lnTo>
                      <a:lnTo>
                        <a:pt x="258" y="358"/>
                      </a:lnTo>
                      <a:lnTo>
                        <a:pt x="317" y="293"/>
                      </a:lnTo>
                      <a:lnTo>
                        <a:pt x="360" y="225"/>
                      </a:lnTo>
                      <a:lnTo>
                        <a:pt x="350" y="192"/>
                      </a:lnTo>
                      <a:lnTo>
                        <a:pt x="317" y="153"/>
                      </a:lnTo>
                      <a:lnTo>
                        <a:pt x="238" y="98"/>
                      </a:lnTo>
                      <a:lnTo>
                        <a:pt x="142" y="78"/>
                      </a:lnTo>
                      <a:lnTo>
                        <a:pt x="79" y="75"/>
                      </a:lnTo>
                      <a:lnTo>
                        <a:pt x="23" y="75"/>
                      </a:lnTo>
                      <a:lnTo>
                        <a:pt x="0" y="3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0"/>
                <p:cNvSpPr/>
                <p:nvPr/>
              </p:nvSpPr>
              <p:spPr>
                <a:xfrm>
                  <a:off x="5723640" y="4129560"/>
                  <a:ext cx="709560" cy="1407960"/>
                </a:xfrm>
                <a:custGeom>
                  <a:avLst/>
                  <a:gdLst>
                    <a:gd name="textAreaLeft" fmla="*/ 0 w 709560"/>
                    <a:gd name="textAreaRight" fmla="*/ 709920 w 709560"/>
                    <a:gd name="textAreaTop" fmla="*/ 0 h 1407960"/>
                    <a:gd name="textAreaBottom" fmla="*/ 1408320 h 1407960"/>
                  </a:gdLst>
                  <a:ahLst/>
                  <a:rect l="textAreaLeft" t="textAreaTop" r="textAreaRight" b="textAreaBottom"/>
                  <a:pathLst>
                    <a:path w="511" h="947">
                      <a:moveTo>
                        <a:pt x="59" y="0"/>
                      </a:moveTo>
                      <a:lnTo>
                        <a:pt x="13" y="0"/>
                      </a:lnTo>
                      <a:lnTo>
                        <a:pt x="0" y="68"/>
                      </a:lnTo>
                      <a:lnTo>
                        <a:pt x="33" y="108"/>
                      </a:lnTo>
                      <a:lnTo>
                        <a:pt x="139" y="202"/>
                      </a:lnTo>
                      <a:lnTo>
                        <a:pt x="232" y="322"/>
                      </a:lnTo>
                      <a:lnTo>
                        <a:pt x="292" y="446"/>
                      </a:lnTo>
                      <a:lnTo>
                        <a:pt x="301" y="527"/>
                      </a:lnTo>
                      <a:lnTo>
                        <a:pt x="298" y="586"/>
                      </a:lnTo>
                      <a:lnTo>
                        <a:pt x="272" y="719"/>
                      </a:lnTo>
                      <a:lnTo>
                        <a:pt x="238" y="827"/>
                      </a:lnTo>
                      <a:lnTo>
                        <a:pt x="209" y="889"/>
                      </a:lnTo>
                      <a:lnTo>
                        <a:pt x="202" y="928"/>
                      </a:lnTo>
                      <a:lnTo>
                        <a:pt x="232" y="928"/>
                      </a:lnTo>
                      <a:lnTo>
                        <a:pt x="278" y="915"/>
                      </a:lnTo>
                      <a:lnTo>
                        <a:pt x="292" y="918"/>
                      </a:lnTo>
                      <a:lnTo>
                        <a:pt x="388" y="924"/>
                      </a:lnTo>
                      <a:lnTo>
                        <a:pt x="461" y="947"/>
                      </a:lnTo>
                      <a:lnTo>
                        <a:pt x="487" y="934"/>
                      </a:lnTo>
                      <a:lnTo>
                        <a:pt x="511" y="885"/>
                      </a:lnTo>
                      <a:lnTo>
                        <a:pt x="487" y="859"/>
                      </a:lnTo>
                      <a:lnTo>
                        <a:pt x="378" y="856"/>
                      </a:lnTo>
                      <a:lnTo>
                        <a:pt x="301" y="866"/>
                      </a:lnTo>
                      <a:lnTo>
                        <a:pt x="262" y="885"/>
                      </a:lnTo>
                      <a:lnTo>
                        <a:pt x="268" y="840"/>
                      </a:lnTo>
                      <a:lnTo>
                        <a:pt x="308" y="771"/>
                      </a:lnTo>
                      <a:lnTo>
                        <a:pt x="341" y="664"/>
                      </a:lnTo>
                      <a:lnTo>
                        <a:pt x="368" y="573"/>
                      </a:lnTo>
                      <a:lnTo>
                        <a:pt x="348" y="469"/>
                      </a:lnTo>
                      <a:lnTo>
                        <a:pt x="318" y="358"/>
                      </a:lnTo>
                      <a:lnTo>
                        <a:pt x="258" y="231"/>
                      </a:lnTo>
                      <a:lnTo>
                        <a:pt x="172" y="114"/>
                      </a:lnTo>
                      <a:lnTo>
                        <a:pt x="99" y="2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1"/>
                <p:cNvSpPr/>
                <p:nvPr/>
              </p:nvSpPr>
              <p:spPr>
                <a:xfrm>
                  <a:off x="5277600" y="4126680"/>
                  <a:ext cx="477720" cy="1434960"/>
                </a:xfrm>
                <a:custGeom>
                  <a:avLst/>
                  <a:gdLst>
                    <a:gd name="textAreaLeft" fmla="*/ 0 w 477720"/>
                    <a:gd name="textAreaRight" fmla="*/ 478080 w 477720"/>
                    <a:gd name="textAreaTop" fmla="*/ 0 h 1434960"/>
                    <a:gd name="textAreaBottom" fmla="*/ 1435320 h 1434960"/>
                  </a:gdLst>
                  <a:ahLst/>
                  <a:rect l="textAreaLeft" t="textAreaTop" r="textAreaRight" b="textAreaBottom"/>
                  <a:pathLst>
                    <a:path w="344" h="965">
                      <a:moveTo>
                        <a:pt x="238" y="0"/>
                      </a:moveTo>
                      <a:lnTo>
                        <a:pt x="195" y="91"/>
                      </a:lnTo>
                      <a:lnTo>
                        <a:pt x="165" y="224"/>
                      </a:lnTo>
                      <a:lnTo>
                        <a:pt x="129" y="371"/>
                      </a:lnTo>
                      <a:lnTo>
                        <a:pt x="96" y="520"/>
                      </a:lnTo>
                      <a:lnTo>
                        <a:pt x="96" y="575"/>
                      </a:lnTo>
                      <a:lnTo>
                        <a:pt x="129" y="673"/>
                      </a:lnTo>
                      <a:lnTo>
                        <a:pt x="175" y="725"/>
                      </a:lnTo>
                      <a:lnTo>
                        <a:pt x="218" y="790"/>
                      </a:lnTo>
                      <a:lnTo>
                        <a:pt x="248" y="838"/>
                      </a:lnTo>
                      <a:lnTo>
                        <a:pt x="235" y="861"/>
                      </a:lnTo>
                      <a:lnTo>
                        <a:pt x="159" y="871"/>
                      </a:lnTo>
                      <a:lnTo>
                        <a:pt x="36" y="890"/>
                      </a:lnTo>
                      <a:lnTo>
                        <a:pt x="0" y="920"/>
                      </a:lnTo>
                      <a:lnTo>
                        <a:pt x="30" y="946"/>
                      </a:lnTo>
                      <a:lnTo>
                        <a:pt x="99" y="965"/>
                      </a:lnTo>
                      <a:lnTo>
                        <a:pt x="179" y="926"/>
                      </a:lnTo>
                      <a:lnTo>
                        <a:pt x="238" y="900"/>
                      </a:lnTo>
                      <a:lnTo>
                        <a:pt x="314" y="890"/>
                      </a:lnTo>
                      <a:lnTo>
                        <a:pt x="344" y="881"/>
                      </a:lnTo>
                      <a:lnTo>
                        <a:pt x="334" y="848"/>
                      </a:lnTo>
                      <a:lnTo>
                        <a:pt x="248" y="764"/>
                      </a:lnTo>
                      <a:lnTo>
                        <a:pt x="198" y="676"/>
                      </a:lnTo>
                      <a:lnTo>
                        <a:pt x="155" y="617"/>
                      </a:lnTo>
                      <a:lnTo>
                        <a:pt x="149" y="559"/>
                      </a:lnTo>
                      <a:lnTo>
                        <a:pt x="169" y="462"/>
                      </a:lnTo>
                      <a:lnTo>
                        <a:pt x="215" y="361"/>
                      </a:lnTo>
                      <a:lnTo>
                        <a:pt x="265" y="189"/>
                      </a:lnTo>
                      <a:lnTo>
                        <a:pt x="308" y="88"/>
                      </a:lnTo>
                      <a:lnTo>
                        <a:pt x="304" y="29"/>
                      </a:lnTo>
                      <a:lnTo>
                        <a:pt x="265" y="0"/>
                      </a:lnTo>
                      <a:lnTo>
                        <a:pt x="238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Group 25"/>
              <p:cNvGrpSpPr/>
              <p:nvPr/>
            </p:nvGrpSpPr>
            <p:grpSpPr>
              <a:xfrm>
                <a:off x="5789160" y="1821960"/>
                <a:ext cx="292680" cy="423360"/>
                <a:chOff x="5789160" y="1821960"/>
                <a:chExt cx="292680" cy="423360"/>
              </a:xfrm>
            </p:grpSpPr>
            <p:sp>
              <p:nvSpPr>
                <p:cNvPr id="67" name="Freeform 23"/>
                <p:cNvSpPr/>
                <p:nvPr/>
              </p:nvSpPr>
              <p:spPr>
                <a:xfrm>
                  <a:off x="5846040" y="1821960"/>
                  <a:ext cx="235800" cy="294120"/>
                </a:xfrm>
                <a:custGeom>
                  <a:avLst/>
                  <a:gdLst>
                    <a:gd name="textAreaLeft" fmla="*/ 0 w 235800"/>
                    <a:gd name="textAreaRight" fmla="*/ 236160 w 235800"/>
                    <a:gd name="textAreaTop" fmla="*/ 0 h 294120"/>
                    <a:gd name="textAreaBottom" fmla="*/ 294480 h 294120"/>
                  </a:gdLst>
                  <a:ahLst/>
                  <a:rect l="textAreaLeft" t="textAreaTop" r="textAreaRight" b="textAreaBottom"/>
                  <a:pathLst>
                    <a:path w="170" h="198">
                      <a:moveTo>
                        <a:pt x="20" y="9"/>
                      </a:moveTo>
                      <a:lnTo>
                        <a:pt x="66" y="0"/>
                      </a:lnTo>
                      <a:lnTo>
                        <a:pt x="110" y="3"/>
                      </a:lnTo>
                      <a:lnTo>
                        <a:pt x="150" y="22"/>
                      </a:lnTo>
                      <a:lnTo>
                        <a:pt x="170" y="58"/>
                      </a:lnTo>
                      <a:lnTo>
                        <a:pt x="170" y="87"/>
                      </a:lnTo>
                      <a:lnTo>
                        <a:pt x="150" y="126"/>
                      </a:lnTo>
                      <a:lnTo>
                        <a:pt x="116" y="149"/>
                      </a:lnTo>
                      <a:lnTo>
                        <a:pt x="66" y="149"/>
                      </a:lnTo>
                      <a:lnTo>
                        <a:pt x="36" y="168"/>
                      </a:lnTo>
                      <a:lnTo>
                        <a:pt x="26" y="198"/>
                      </a:lnTo>
                      <a:lnTo>
                        <a:pt x="0" y="188"/>
                      </a:lnTo>
                      <a:lnTo>
                        <a:pt x="10" y="149"/>
                      </a:lnTo>
                      <a:lnTo>
                        <a:pt x="46" y="126"/>
                      </a:lnTo>
                      <a:lnTo>
                        <a:pt x="106" y="120"/>
                      </a:lnTo>
                      <a:lnTo>
                        <a:pt x="130" y="97"/>
                      </a:lnTo>
                      <a:lnTo>
                        <a:pt x="136" y="61"/>
                      </a:lnTo>
                      <a:lnTo>
                        <a:pt x="110" y="29"/>
                      </a:lnTo>
                      <a:lnTo>
                        <a:pt x="70" y="29"/>
                      </a:lnTo>
                      <a:lnTo>
                        <a:pt x="26" y="39"/>
                      </a:lnTo>
                      <a:lnTo>
                        <a:pt x="10" y="29"/>
                      </a:lnTo>
                      <a:lnTo>
                        <a:pt x="2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24"/>
                <p:cNvSpPr/>
                <p:nvPr/>
              </p:nvSpPr>
              <p:spPr>
                <a:xfrm>
                  <a:off x="5789160" y="2165400"/>
                  <a:ext cx="73440" cy="79920"/>
                </a:xfrm>
                <a:custGeom>
                  <a:avLst/>
                  <a:gdLst>
                    <a:gd name="textAreaLeft" fmla="*/ 0 w 73440"/>
                    <a:gd name="textAreaRight" fmla="*/ 73800 w 7344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53" h="54">
                      <a:moveTo>
                        <a:pt x="53" y="3"/>
                      </a:moveTo>
                      <a:lnTo>
                        <a:pt x="26" y="0"/>
                      </a:lnTo>
                      <a:lnTo>
                        <a:pt x="8" y="20"/>
                      </a:lnTo>
                      <a:lnTo>
                        <a:pt x="0" y="51"/>
                      </a:lnTo>
                      <a:lnTo>
                        <a:pt x="26" y="54"/>
                      </a:lnTo>
                      <a:lnTo>
                        <a:pt x="48" y="40"/>
                      </a:lnTo>
                      <a:lnTo>
                        <a:pt x="5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8"/>
          <p:cNvSpPr/>
          <p:nvPr/>
        </p:nvSpPr>
        <p:spPr>
          <a:xfrm>
            <a:off x="1523880" y="228600"/>
            <a:ext cx="662940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акое наименьшее основание может иметь система счисления, если в ней записано  число 7АВ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838080" y="533520"/>
            <a:ext cx="762012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 семеричной системе счисления не может быть записано числ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J0282747"/>
          <p:cNvPicPr/>
          <p:nvPr/>
        </p:nvPicPr>
        <p:blipFill>
          <a:blip r:embed="rId1"/>
          <a:stretch/>
        </p:blipFill>
        <p:spPr>
          <a:xfrm rot="355800">
            <a:off x="4155840" y="1590480"/>
            <a:ext cx="34830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990720" y="228600"/>
            <a:ext cx="761976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реди чисел, которые записаны в восьмеричной системе счисления, найдите ответ на данный 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3"/>
          <p:cNvSpPr/>
          <p:nvPr/>
        </p:nvSpPr>
        <p:spPr>
          <a:xfrm>
            <a:off x="3581280" y="190512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– 6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066680" y="457200"/>
            <a:ext cx="739152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акой буквы нет в шестнадцатеричной системе счисл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4413600" y="1477800"/>
            <a:ext cx="4307760" cy="4132080"/>
            <a:chOff x="4413600" y="1477800"/>
            <a:chExt cx="4307760" cy="4132080"/>
          </a:xfrm>
        </p:grpSpPr>
        <p:sp>
          <p:nvSpPr>
            <p:cNvPr id="79" name="Text Box 14"/>
            <p:cNvSpPr/>
            <p:nvPr/>
          </p:nvSpPr>
          <p:spPr>
            <a:xfrm rot="2460600">
              <a:off x="4690080" y="1567800"/>
              <a:ext cx="686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4578120" y="4315320"/>
              <a:ext cx="684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 rot="20634600">
              <a:off x="7169400" y="238464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99cc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 rot="955200">
              <a:off x="7898760" y="4385520"/>
              <a:ext cx="684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8"/>
            <p:cNvGrpSpPr/>
            <p:nvPr/>
          </p:nvGrpSpPr>
          <p:grpSpPr>
            <a:xfrm>
              <a:off x="5512320" y="1721160"/>
              <a:ext cx="1517400" cy="3888720"/>
              <a:chOff x="5512320" y="1721160"/>
              <a:chExt cx="1517400" cy="3888720"/>
            </a:xfrm>
          </p:grpSpPr>
          <p:sp>
            <p:nvSpPr>
              <p:cNvPr id="84" name="AutoShape 19"/>
              <p:cNvSpPr/>
              <p:nvPr/>
            </p:nvSpPr>
            <p:spPr>
              <a:xfrm>
                <a:off x="5512320" y="1721160"/>
                <a:ext cx="1517400" cy="38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20"/>
              <p:cNvGrpSpPr/>
              <p:nvPr/>
            </p:nvGrpSpPr>
            <p:grpSpPr>
              <a:xfrm>
                <a:off x="5514840" y="2022120"/>
                <a:ext cx="1512720" cy="3587040"/>
                <a:chOff x="5514840" y="2022120"/>
                <a:chExt cx="1512720" cy="3587040"/>
              </a:xfrm>
            </p:grpSpPr>
            <p:sp>
              <p:nvSpPr>
                <p:cNvPr id="86" name="Freeform 21"/>
                <p:cNvSpPr/>
                <p:nvPr/>
              </p:nvSpPr>
              <p:spPr>
                <a:xfrm>
                  <a:off x="5997240" y="2222640"/>
                  <a:ext cx="592200" cy="78300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783000"/>
                    <a:gd name="textAreaBottom" fmla="*/ 783360 h 783000"/>
                  </a:gdLst>
                  <a:ahLst/>
                  <a:rect l="textAreaLeft" t="textAreaTop" r="textAreaRight" b="textAreaBottom"/>
                  <a:pathLst>
                    <a:path w="457" h="507">
                      <a:moveTo>
                        <a:pt x="238" y="117"/>
                      </a:moveTo>
                      <a:lnTo>
                        <a:pt x="198" y="65"/>
                      </a:lnTo>
                      <a:lnTo>
                        <a:pt x="142" y="26"/>
                      </a:lnTo>
                      <a:lnTo>
                        <a:pt x="92" y="0"/>
                      </a:lnTo>
                      <a:lnTo>
                        <a:pt x="52" y="7"/>
                      </a:lnTo>
                      <a:lnTo>
                        <a:pt x="23" y="36"/>
                      </a:lnTo>
                      <a:lnTo>
                        <a:pt x="0" y="124"/>
                      </a:lnTo>
                      <a:lnTo>
                        <a:pt x="9" y="225"/>
                      </a:lnTo>
                      <a:lnTo>
                        <a:pt x="33" y="322"/>
                      </a:lnTo>
                      <a:lnTo>
                        <a:pt x="59" y="397"/>
                      </a:lnTo>
                      <a:lnTo>
                        <a:pt x="109" y="475"/>
                      </a:lnTo>
                      <a:lnTo>
                        <a:pt x="152" y="507"/>
                      </a:lnTo>
                      <a:lnTo>
                        <a:pt x="211" y="507"/>
                      </a:lnTo>
                      <a:lnTo>
                        <a:pt x="271" y="485"/>
                      </a:lnTo>
                      <a:lnTo>
                        <a:pt x="301" y="429"/>
                      </a:lnTo>
                      <a:lnTo>
                        <a:pt x="317" y="358"/>
                      </a:lnTo>
                      <a:lnTo>
                        <a:pt x="311" y="270"/>
                      </a:lnTo>
                      <a:lnTo>
                        <a:pt x="450" y="280"/>
                      </a:lnTo>
                      <a:lnTo>
                        <a:pt x="457" y="241"/>
                      </a:lnTo>
                      <a:lnTo>
                        <a:pt x="298" y="225"/>
                      </a:lnTo>
                      <a:lnTo>
                        <a:pt x="258" y="134"/>
                      </a:lnTo>
                      <a:lnTo>
                        <a:pt x="238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22"/>
                <p:cNvSpPr/>
                <p:nvPr/>
              </p:nvSpPr>
              <p:spPr>
                <a:xfrm>
                  <a:off x="5514840" y="2022120"/>
                  <a:ext cx="681840" cy="1255680"/>
                </a:xfrm>
                <a:custGeom>
                  <a:avLst/>
                  <a:gdLst>
                    <a:gd name="textAreaLeft" fmla="*/ 0 w 681840"/>
                    <a:gd name="textAreaRight" fmla="*/ 682200 w 681840"/>
                    <a:gd name="textAreaTop" fmla="*/ 0 h 1255680"/>
                    <a:gd name="textAreaBottom" fmla="*/ 1256040 h 1255680"/>
                  </a:gdLst>
                  <a:ahLst/>
                  <a:rect l="textAreaLeft" t="textAreaTop" r="textAreaRight" b="textAreaBottom"/>
                  <a:pathLst>
                    <a:path w="526" h="813">
                      <a:moveTo>
                        <a:pt x="307" y="19"/>
                      </a:moveTo>
                      <a:lnTo>
                        <a:pt x="373" y="0"/>
                      </a:lnTo>
                      <a:lnTo>
                        <a:pt x="426" y="3"/>
                      </a:lnTo>
                      <a:lnTo>
                        <a:pt x="466" y="32"/>
                      </a:lnTo>
                      <a:lnTo>
                        <a:pt x="493" y="78"/>
                      </a:lnTo>
                      <a:lnTo>
                        <a:pt x="483" y="126"/>
                      </a:lnTo>
                      <a:lnTo>
                        <a:pt x="446" y="126"/>
                      </a:lnTo>
                      <a:lnTo>
                        <a:pt x="456" y="87"/>
                      </a:lnTo>
                      <a:lnTo>
                        <a:pt x="426" y="52"/>
                      </a:lnTo>
                      <a:lnTo>
                        <a:pt x="397" y="39"/>
                      </a:lnTo>
                      <a:lnTo>
                        <a:pt x="347" y="52"/>
                      </a:lnTo>
                      <a:lnTo>
                        <a:pt x="367" y="91"/>
                      </a:lnTo>
                      <a:lnTo>
                        <a:pt x="373" y="126"/>
                      </a:lnTo>
                      <a:lnTo>
                        <a:pt x="367" y="156"/>
                      </a:lnTo>
                      <a:lnTo>
                        <a:pt x="317" y="169"/>
                      </a:lnTo>
                      <a:lnTo>
                        <a:pt x="264" y="159"/>
                      </a:lnTo>
                      <a:lnTo>
                        <a:pt x="254" y="136"/>
                      </a:lnTo>
                      <a:lnTo>
                        <a:pt x="198" y="198"/>
                      </a:lnTo>
                      <a:lnTo>
                        <a:pt x="165" y="266"/>
                      </a:lnTo>
                      <a:lnTo>
                        <a:pt x="119" y="354"/>
                      </a:lnTo>
                      <a:lnTo>
                        <a:pt x="89" y="432"/>
                      </a:lnTo>
                      <a:lnTo>
                        <a:pt x="76" y="507"/>
                      </a:lnTo>
                      <a:lnTo>
                        <a:pt x="86" y="546"/>
                      </a:lnTo>
                      <a:lnTo>
                        <a:pt x="139" y="595"/>
                      </a:lnTo>
                      <a:lnTo>
                        <a:pt x="248" y="637"/>
                      </a:lnTo>
                      <a:lnTo>
                        <a:pt x="307" y="656"/>
                      </a:lnTo>
                      <a:lnTo>
                        <a:pt x="367" y="666"/>
                      </a:lnTo>
                      <a:lnTo>
                        <a:pt x="456" y="702"/>
                      </a:lnTo>
                      <a:lnTo>
                        <a:pt x="522" y="725"/>
                      </a:lnTo>
                      <a:lnTo>
                        <a:pt x="526" y="770"/>
                      </a:lnTo>
                      <a:lnTo>
                        <a:pt x="493" y="803"/>
                      </a:lnTo>
                      <a:lnTo>
                        <a:pt x="453" y="813"/>
                      </a:lnTo>
                      <a:lnTo>
                        <a:pt x="393" y="783"/>
                      </a:lnTo>
                      <a:lnTo>
                        <a:pt x="254" y="712"/>
                      </a:lnTo>
                      <a:lnTo>
                        <a:pt x="139" y="663"/>
                      </a:lnTo>
                      <a:lnTo>
                        <a:pt x="59" y="608"/>
                      </a:lnTo>
                      <a:lnTo>
                        <a:pt x="6" y="559"/>
                      </a:lnTo>
                      <a:lnTo>
                        <a:pt x="0" y="500"/>
                      </a:lnTo>
                      <a:lnTo>
                        <a:pt x="29" y="422"/>
                      </a:lnTo>
                      <a:lnTo>
                        <a:pt x="89" y="305"/>
                      </a:lnTo>
                      <a:lnTo>
                        <a:pt x="145" y="208"/>
                      </a:lnTo>
                      <a:lnTo>
                        <a:pt x="215" y="107"/>
                      </a:lnTo>
                      <a:lnTo>
                        <a:pt x="268" y="48"/>
                      </a:lnTo>
                      <a:lnTo>
                        <a:pt x="334" y="19"/>
                      </a:lnTo>
                      <a:lnTo>
                        <a:pt x="307" y="19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23"/>
                <p:cNvSpPr/>
                <p:nvPr/>
              </p:nvSpPr>
              <p:spPr>
                <a:xfrm>
                  <a:off x="6157800" y="3063240"/>
                  <a:ext cx="356400" cy="117864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178640"/>
                    <a:gd name="textAreaBottom" fmla="*/ 1179000 h 1178640"/>
                  </a:gdLst>
                  <a:ahLst/>
                  <a:rect l="textAreaLeft" t="textAreaTop" r="textAreaRight" b="textAreaBottom"/>
                  <a:pathLst>
                    <a:path w="275" h="763">
                      <a:moveTo>
                        <a:pt x="17" y="59"/>
                      </a:moveTo>
                      <a:lnTo>
                        <a:pt x="27" y="20"/>
                      </a:lnTo>
                      <a:lnTo>
                        <a:pt x="70" y="0"/>
                      </a:lnTo>
                      <a:lnTo>
                        <a:pt x="109" y="0"/>
                      </a:lnTo>
                      <a:lnTo>
                        <a:pt x="159" y="29"/>
                      </a:lnTo>
                      <a:lnTo>
                        <a:pt x="206" y="98"/>
                      </a:lnTo>
                      <a:lnTo>
                        <a:pt x="239" y="169"/>
                      </a:lnTo>
                      <a:lnTo>
                        <a:pt x="255" y="266"/>
                      </a:lnTo>
                      <a:lnTo>
                        <a:pt x="269" y="380"/>
                      </a:lnTo>
                      <a:lnTo>
                        <a:pt x="275" y="490"/>
                      </a:lnTo>
                      <a:lnTo>
                        <a:pt x="275" y="633"/>
                      </a:lnTo>
                      <a:lnTo>
                        <a:pt x="255" y="721"/>
                      </a:lnTo>
                      <a:lnTo>
                        <a:pt x="219" y="753"/>
                      </a:lnTo>
                      <a:lnTo>
                        <a:pt x="156" y="763"/>
                      </a:lnTo>
                      <a:lnTo>
                        <a:pt x="90" y="760"/>
                      </a:lnTo>
                      <a:lnTo>
                        <a:pt x="56" y="721"/>
                      </a:lnTo>
                      <a:lnTo>
                        <a:pt x="37" y="653"/>
                      </a:lnTo>
                      <a:lnTo>
                        <a:pt x="20" y="585"/>
                      </a:lnTo>
                      <a:lnTo>
                        <a:pt x="7" y="461"/>
                      </a:lnTo>
                      <a:lnTo>
                        <a:pt x="0" y="322"/>
                      </a:lnTo>
                      <a:lnTo>
                        <a:pt x="0" y="159"/>
                      </a:lnTo>
                      <a:lnTo>
                        <a:pt x="17" y="88"/>
                      </a:lnTo>
                      <a:lnTo>
                        <a:pt x="17" y="59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24"/>
                <p:cNvSpPr/>
                <p:nvPr/>
              </p:nvSpPr>
              <p:spPr>
                <a:xfrm>
                  <a:off x="6322320" y="3095640"/>
                  <a:ext cx="544320" cy="905040"/>
                </a:xfrm>
                <a:custGeom>
                  <a:avLst/>
                  <a:gdLst>
                    <a:gd name="textAreaLeft" fmla="*/ 0 w 544320"/>
                    <a:gd name="textAreaRight" fmla="*/ 544680 w 544320"/>
                    <a:gd name="textAreaTop" fmla="*/ 0 h 905040"/>
                    <a:gd name="textAreaBottom" fmla="*/ 905400 h 905040"/>
                  </a:gdLst>
                  <a:ahLst/>
                  <a:rect l="textAreaLeft" t="textAreaTop" r="textAreaRight" b="textAreaBottom"/>
                  <a:pathLst>
                    <a:path w="420" h="586">
                      <a:moveTo>
                        <a:pt x="23" y="0"/>
                      </a:moveTo>
                      <a:lnTo>
                        <a:pt x="109" y="10"/>
                      </a:lnTo>
                      <a:lnTo>
                        <a:pt x="198" y="26"/>
                      </a:lnTo>
                      <a:lnTo>
                        <a:pt x="291" y="78"/>
                      </a:lnTo>
                      <a:lnTo>
                        <a:pt x="357" y="117"/>
                      </a:lnTo>
                      <a:lnTo>
                        <a:pt x="400" y="173"/>
                      </a:lnTo>
                      <a:lnTo>
                        <a:pt x="420" y="205"/>
                      </a:lnTo>
                      <a:lnTo>
                        <a:pt x="380" y="300"/>
                      </a:lnTo>
                      <a:lnTo>
                        <a:pt x="317" y="358"/>
                      </a:lnTo>
                      <a:lnTo>
                        <a:pt x="241" y="400"/>
                      </a:lnTo>
                      <a:lnTo>
                        <a:pt x="201" y="426"/>
                      </a:lnTo>
                      <a:lnTo>
                        <a:pt x="132" y="439"/>
                      </a:lnTo>
                      <a:lnTo>
                        <a:pt x="129" y="465"/>
                      </a:lnTo>
                      <a:lnTo>
                        <a:pt x="182" y="488"/>
                      </a:lnTo>
                      <a:lnTo>
                        <a:pt x="258" y="508"/>
                      </a:lnTo>
                      <a:lnTo>
                        <a:pt x="330" y="547"/>
                      </a:lnTo>
                      <a:lnTo>
                        <a:pt x="301" y="576"/>
                      </a:lnTo>
                      <a:lnTo>
                        <a:pt x="271" y="586"/>
                      </a:lnTo>
                      <a:lnTo>
                        <a:pt x="228" y="543"/>
                      </a:lnTo>
                      <a:lnTo>
                        <a:pt x="162" y="517"/>
                      </a:lnTo>
                      <a:lnTo>
                        <a:pt x="109" y="498"/>
                      </a:lnTo>
                      <a:lnTo>
                        <a:pt x="109" y="459"/>
                      </a:lnTo>
                      <a:lnTo>
                        <a:pt x="119" y="417"/>
                      </a:lnTo>
                      <a:lnTo>
                        <a:pt x="152" y="400"/>
                      </a:lnTo>
                      <a:lnTo>
                        <a:pt x="258" y="358"/>
                      </a:lnTo>
                      <a:lnTo>
                        <a:pt x="317" y="293"/>
                      </a:lnTo>
                      <a:lnTo>
                        <a:pt x="360" y="225"/>
                      </a:lnTo>
                      <a:lnTo>
                        <a:pt x="350" y="192"/>
                      </a:lnTo>
                      <a:lnTo>
                        <a:pt x="317" y="153"/>
                      </a:lnTo>
                      <a:lnTo>
                        <a:pt x="238" y="98"/>
                      </a:lnTo>
                      <a:lnTo>
                        <a:pt x="142" y="78"/>
                      </a:lnTo>
                      <a:lnTo>
                        <a:pt x="79" y="75"/>
                      </a:lnTo>
                      <a:lnTo>
                        <a:pt x="23" y="75"/>
                      </a:lnTo>
                      <a:lnTo>
                        <a:pt x="0" y="3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25"/>
                <p:cNvSpPr/>
                <p:nvPr/>
              </p:nvSpPr>
              <p:spPr>
                <a:xfrm>
                  <a:off x="6365160" y="4121640"/>
                  <a:ext cx="662400" cy="1462680"/>
                </a:xfrm>
                <a:custGeom>
                  <a:avLst/>
                  <a:gdLst>
                    <a:gd name="textAreaLeft" fmla="*/ 0 w 662400"/>
                    <a:gd name="textAreaRight" fmla="*/ 662760 w 662400"/>
                    <a:gd name="textAreaTop" fmla="*/ 0 h 1462680"/>
                    <a:gd name="textAreaBottom" fmla="*/ 1463040 h 1462680"/>
                  </a:gdLst>
                  <a:ahLst/>
                  <a:rect l="textAreaLeft" t="textAreaTop" r="textAreaRight" b="textAreaBottom"/>
                  <a:pathLst>
                    <a:path w="511" h="947">
                      <a:moveTo>
                        <a:pt x="59" y="0"/>
                      </a:moveTo>
                      <a:lnTo>
                        <a:pt x="13" y="0"/>
                      </a:lnTo>
                      <a:lnTo>
                        <a:pt x="0" y="68"/>
                      </a:lnTo>
                      <a:lnTo>
                        <a:pt x="33" y="108"/>
                      </a:lnTo>
                      <a:lnTo>
                        <a:pt x="139" y="202"/>
                      </a:lnTo>
                      <a:lnTo>
                        <a:pt x="232" y="322"/>
                      </a:lnTo>
                      <a:lnTo>
                        <a:pt x="292" y="446"/>
                      </a:lnTo>
                      <a:lnTo>
                        <a:pt x="301" y="527"/>
                      </a:lnTo>
                      <a:lnTo>
                        <a:pt x="298" y="586"/>
                      </a:lnTo>
                      <a:lnTo>
                        <a:pt x="272" y="719"/>
                      </a:lnTo>
                      <a:lnTo>
                        <a:pt x="238" y="827"/>
                      </a:lnTo>
                      <a:lnTo>
                        <a:pt x="209" y="889"/>
                      </a:lnTo>
                      <a:lnTo>
                        <a:pt x="202" y="928"/>
                      </a:lnTo>
                      <a:lnTo>
                        <a:pt x="232" y="928"/>
                      </a:lnTo>
                      <a:lnTo>
                        <a:pt x="278" y="915"/>
                      </a:lnTo>
                      <a:lnTo>
                        <a:pt x="292" y="918"/>
                      </a:lnTo>
                      <a:lnTo>
                        <a:pt x="388" y="924"/>
                      </a:lnTo>
                      <a:lnTo>
                        <a:pt x="461" y="947"/>
                      </a:lnTo>
                      <a:lnTo>
                        <a:pt x="487" y="934"/>
                      </a:lnTo>
                      <a:lnTo>
                        <a:pt x="511" y="885"/>
                      </a:lnTo>
                      <a:lnTo>
                        <a:pt x="487" y="859"/>
                      </a:lnTo>
                      <a:lnTo>
                        <a:pt x="378" y="856"/>
                      </a:lnTo>
                      <a:lnTo>
                        <a:pt x="301" y="866"/>
                      </a:lnTo>
                      <a:lnTo>
                        <a:pt x="262" y="885"/>
                      </a:lnTo>
                      <a:lnTo>
                        <a:pt x="268" y="840"/>
                      </a:lnTo>
                      <a:lnTo>
                        <a:pt x="308" y="771"/>
                      </a:lnTo>
                      <a:lnTo>
                        <a:pt x="341" y="664"/>
                      </a:lnTo>
                      <a:lnTo>
                        <a:pt x="368" y="573"/>
                      </a:lnTo>
                      <a:lnTo>
                        <a:pt x="348" y="469"/>
                      </a:lnTo>
                      <a:lnTo>
                        <a:pt x="318" y="358"/>
                      </a:lnTo>
                      <a:lnTo>
                        <a:pt x="258" y="231"/>
                      </a:lnTo>
                      <a:lnTo>
                        <a:pt x="172" y="114"/>
                      </a:lnTo>
                      <a:lnTo>
                        <a:pt x="99" y="2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6"/>
                <p:cNvSpPr/>
                <p:nvPr/>
              </p:nvSpPr>
              <p:spPr>
                <a:xfrm>
                  <a:off x="5949000" y="4118400"/>
                  <a:ext cx="446040" cy="1490760"/>
                </a:xfrm>
                <a:custGeom>
                  <a:avLst/>
                  <a:gdLst>
                    <a:gd name="textAreaLeft" fmla="*/ 0 w 446040"/>
                    <a:gd name="textAreaRight" fmla="*/ 446400 w 446040"/>
                    <a:gd name="textAreaTop" fmla="*/ 0 h 1490760"/>
                    <a:gd name="textAreaBottom" fmla="*/ 1491120 h 1490760"/>
                  </a:gdLst>
                  <a:ahLst/>
                  <a:rect l="textAreaLeft" t="textAreaTop" r="textAreaRight" b="textAreaBottom"/>
                  <a:pathLst>
                    <a:path w="344" h="965">
                      <a:moveTo>
                        <a:pt x="238" y="0"/>
                      </a:moveTo>
                      <a:lnTo>
                        <a:pt x="195" y="91"/>
                      </a:lnTo>
                      <a:lnTo>
                        <a:pt x="165" y="224"/>
                      </a:lnTo>
                      <a:lnTo>
                        <a:pt x="129" y="371"/>
                      </a:lnTo>
                      <a:lnTo>
                        <a:pt x="96" y="520"/>
                      </a:lnTo>
                      <a:lnTo>
                        <a:pt x="96" y="575"/>
                      </a:lnTo>
                      <a:lnTo>
                        <a:pt x="129" y="673"/>
                      </a:lnTo>
                      <a:lnTo>
                        <a:pt x="175" y="725"/>
                      </a:lnTo>
                      <a:lnTo>
                        <a:pt x="218" y="790"/>
                      </a:lnTo>
                      <a:lnTo>
                        <a:pt x="248" y="838"/>
                      </a:lnTo>
                      <a:lnTo>
                        <a:pt x="235" y="861"/>
                      </a:lnTo>
                      <a:lnTo>
                        <a:pt x="159" y="871"/>
                      </a:lnTo>
                      <a:lnTo>
                        <a:pt x="36" y="890"/>
                      </a:lnTo>
                      <a:lnTo>
                        <a:pt x="0" y="920"/>
                      </a:lnTo>
                      <a:lnTo>
                        <a:pt x="30" y="946"/>
                      </a:lnTo>
                      <a:lnTo>
                        <a:pt x="99" y="965"/>
                      </a:lnTo>
                      <a:lnTo>
                        <a:pt x="179" y="926"/>
                      </a:lnTo>
                      <a:lnTo>
                        <a:pt x="238" y="900"/>
                      </a:lnTo>
                      <a:lnTo>
                        <a:pt x="314" y="890"/>
                      </a:lnTo>
                      <a:lnTo>
                        <a:pt x="344" y="881"/>
                      </a:lnTo>
                      <a:lnTo>
                        <a:pt x="334" y="848"/>
                      </a:lnTo>
                      <a:lnTo>
                        <a:pt x="248" y="764"/>
                      </a:lnTo>
                      <a:lnTo>
                        <a:pt x="198" y="676"/>
                      </a:lnTo>
                      <a:lnTo>
                        <a:pt x="155" y="617"/>
                      </a:lnTo>
                      <a:lnTo>
                        <a:pt x="149" y="559"/>
                      </a:lnTo>
                      <a:lnTo>
                        <a:pt x="169" y="462"/>
                      </a:lnTo>
                      <a:lnTo>
                        <a:pt x="215" y="361"/>
                      </a:lnTo>
                      <a:lnTo>
                        <a:pt x="265" y="189"/>
                      </a:lnTo>
                      <a:lnTo>
                        <a:pt x="308" y="88"/>
                      </a:lnTo>
                      <a:lnTo>
                        <a:pt x="304" y="29"/>
                      </a:lnTo>
                      <a:lnTo>
                        <a:pt x="265" y="0"/>
                      </a:lnTo>
                      <a:lnTo>
                        <a:pt x="238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27"/>
              <p:cNvGrpSpPr/>
              <p:nvPr/>
            </p:nvGrpSpPr>
            <p:grpSpPr>
              <a:xfrm>
                <a:off x="6426360" y="1724040"/>
                <a:ext cx="273240" cy="439920"/>
                <a:chOff x="6426360" y="1724040"/>
                <a:chExt cx="273240" cy="439920"/>
              </a:xfrm>
            </p:grpSpPr>
            <p:sp>
              <p:nvSpPr>
                <p:cNvPr id="93" name="Freeform 28"/>
                <p:cNvSpPr/>
                <p:nvPr/>
              </p:nvSpPr>
              <p:spPr>
                <a:xfrm>
                  <a:off x="6479280" y="1724040"/>
                  <a:ext cx="220320" cy="305640"/>
                </a:xfrm>
                <a:custGeom>
                  <a:avLst/>
                  <a:gdLst>
                    <a:gd name="textAreaLeft" fmla="*/ 0 w 220320"/>
                    <a:gd name="textAreaRight" fmla="*/ 220680 w 220320"/>
                    <a:gd name="textAreaTop" fmla="*/ 0 h 305640"/>
                    <a:gd name="textAreaBottom" fmla="*/ 306000 h 305640"/>
                  </a:gdLst>
                  <a:ahLst/>
                  <a:rect l="textAreaLeft" t="textAreaTop" r="textAreaRight" b="textAreaBottom"/>
                  <a:pathLst>
                    <a:path w="170" h="198">
                      <a:moveTo>
                        <a:pt x="20" y="9"/>
                      </a:moveTo>
                      <a:lnTo>
                        <a:pt x="66" y="0"/>
                      </a:lnTo>
                      <a:lnTo>
                        <a:pt x="110" y="3"/>
                      </a:lnTo>
                      <a:lnTo>
                        <a:pt x="150" y="22"/>
                      </a:lnTo>
                      <a:lnTo>
                        <a:pt x="170" y="58"/>
                      </a:lnTo>
                      <a:lnTo>
                        <a:pt x="170" y="87"/>
                      </a:lnTo>
                      <a:lnTo>
                        <a:pt x="150" y="126"/>
                      </a:lnTo>
                      <a:lnTo>
                        <a:pt x="116" y="149"/>
                      </a:lnTo>
                      <a:lnTo>
                        <a:pt x="66" y="149"/>
                      </a:lnTo>
                      <a:lnTo>
                        <a:pt x="36" y="168"/>
                      </a:lnTo>
                      <a:lnTo>
                        <a:pt x="26" y="198"/>
                      </a:lnTo>
                      <a:lnTo>
                        <a:pt x="0" y="188"/>
                      </a:lnTo>
                      <a:lnTo>
                        <a:pt x="10" y="149"/>
                      </a:lnTo>
                      <a:lnTo>
                        <a:pt x="46" y="126"/>
                      </a:lnTo>
                      <a:lnTo>
                        <a:pt x="106" y="120"/>
                      </a:lnTo>
                      <a:lnTo>
                        <a:pt x="130" y="97"/>
                      </a:lnTo>
                      <a:lnTo>
                        <a:pt x="136" y="61"/>
                      </a:lnTo>
                      <a:lnTo>
                        <a:pt x="110" y="29"/>
                      </a:lnTo>
                      <a:lnTo>
                        <a:pt x="70" y="29"/>
                      </a:lnTo>
                      <a:lnTo>
                        <a:pt x="26" y="39"/>
                      </a:lnTo>
                      <a:lnTo>
                        <a:pt x="10" y="29"/>
                      </a:lnTo>
                      <a:lnTo>
                        <a:pt x="2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29"/>
                <p:cNvSpPr/>
                <p:nvPr/>
              </p:nvSpPr>
              <p:spPr>
                <a:xfrm>
                  <a:off x="6426360" y="2080800"/>
                  <a:ext cx="68760" cy="83160"/>
                </a:xfrm>
                <a:custGeom>
                  <a:avLst/>
                  <a:gdLst>
                    <a:gd name="textAreaLeft" fmla="*/ 0 w 68760"/>
                    <a:gd name="textAreaRight" fmla="*/ 69120 w 687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53" h="54">
                      <a:moveTo>
                        <a:pt x="53" y="3"/>
                      </a:moveTo>
                      <a:lnTo>
                        <a:pt x="26" y="0"/>
                      </a:lnTo>
                      <a:lnTo>
                        <a:pt x="8" y="20"/>
                      </a:lnTo>
                      <a:lnTo>
                        <a:pt x="0" y="51"/>
                      </a:lnTo>
                      <a:lnTo>
                        <a:pt x="26" y="54"/>
                      </a:lnTo>
                      <a:lnTo>
                        <a:pt x="48" y="40"/>
                      </a:lnTo>
                      <a:lnTo>
                        <a:pt x="5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914400" y="380880"/>
            <a:ext cx="777240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ак обозначается число 50 в римско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olloseum"/>
          <p:cNvPicPr/>
          <p:nvPr/>
        </p:nvPicPr>
        <p:blipFill>
          <a:blip r:embed="rId1"/>
          <a:stretch/>
        </p:blipFill>
        <p:spPr>
          <a:xfrm>
            <a:off x="4200480" y="1676520"/>
            <a:ext cx="4740480" cy="4114800"/>
          </a:xfrm>
          <a:prstGeom prst="rect">
            <a:avLst/>
          </a:prstGeom>
          <a:ln w="9360">
            <a:solidFill>
              <a:srgbClr val="0099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Text Box 9"/>
          <p:cNvSpPr/>
          <p:nvPr/>
        </p:nvSpPr>
        <p:spPr>
          <a:xfrm rot="20769600">
            <a:off x="2560680" y="16462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 rot="1339800">
            <a:off x="2647080" y="3463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 rot="19746600">
            <a:off x="2621520" y="4751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X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 rot="736800">
            <a:off x="3014280" y="23954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914400" y="457200"/>
            <a:ext cx="731520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 какой системе счисления представлены информация, хранящаяся в памяти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9" descr="Рисунок ПК"/>
          <p:cNvPicPr/>
          <p:nvPr/>
        </p:nvPicPr>
        <p:blipFill>
          <a:blip r:embed="rId1"/>
          <a:srcRect l="12248" t="0" r="8162" b="0"/>
          <a:stretch/>
        </p:blipFill>
        <p:spPr>
          <a:xfrm>
            <a:off x="4572000" y="1828800"/>
            <a:ext cx="41148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143000" y="228600"/>
            <a:ext cx="754380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оличество цифр, которые используются в данной системе счисления называют 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1" descr="r"/>
          <p:cNvPicPr/>
          <p:nvPr/>
        </p:nvPicPr>
        <p:blipFill>
          <a:blip r:embed="rId1"/>
          <a:stretch/>
        </p:blipFill>
        <p:spPr>
          <a:xfrm>
            <a:off x="4572000" y="1484280"/>
            <a:ext cx="40384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228600" y="609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914400" y="380880"/>
            <a:ext cx="7467480" cy="1191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реди чисел, записанных в двоичной системе счисления, найдите ответ соответствующий данному при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J0282747"/>
          <p:cNvPicPr/>
          <p:nvPr/>
        </p:nvPicPr>
        <p:blipFill>
          <a:blip r:embed="rId1"/>
          <a:stretch/>
        </p:blipFill>
        <p:spPr>
          <a:xfrm rot="355800">
            <a:off x="6400800" y="2286000"/>
            <a:ext cx="24382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1" name="Группа 10"/>
          <p:cNvGrpSpPr/>
          <p:nvPr/>
        </p:nvGrpSpPr>
        <p:grpSpPr>
          <a:xfrm>
            <a:off x="3346560" y="2666880"/>
            <a:ext cx="2450880" cy="1527120"/>
            <a:chOff x="3346560" y="2666880"/>
            <a:chExt cx="2450880" cy="1527120"/>
          </a:xfrm>
        </p:grpSpPr>
        <p:sp>
          <p:nvSpPr>
            <p:cNvPr id="112" name="TextBox 5"/>
            <p:cNvSpPr/>
            <p:nvPr/>
          </p:nvSpPr>
          <p:spPr>
            <a:xfrm>
              <a:off x="3758760" y="2666880"/>
              <a:ext cx="1956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1011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3992400" y="3429000"/>
              <a:ext cx="160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ая соединительная линия 8"/>
            <p:cNvSpPr/>
            <p:nvPr/>
          </p:nvSpPr>
          <p:spPr>
            <a:xfrm>
              <a:off x="3346560" y="4191120"/>
              <a:ext cx="2450880" cy="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9"/>
            <p:cNvSpPr/>
            <p:nvPr/>
          </p:nvSpPr>
          <p:spPr>
            <a:xfrm>
              <a:off x="3672720" y="2948760"/>
              <a:ext cx="67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25-04-22T18:58:46Z</dcterms:modified>
  <cp:revision>4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